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0B4FD-8304-424A-898B-AB7BA5A75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D1130-C14D-4213-B3D1-E190521C8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B7A40-E32D-49E1-8D0C-13F67EFD0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44F28-D23B-4A16-8A57-68A9BDB65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38AAE3-5AF9-4FCD-A25C-CDD95D0FF5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8DB01-82BF-4ABA-97F2-7B0160AA0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5C579-963A-442F-8EBB-1CEF784B9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69274-C34B-4EFD-A2DC-830246E5E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35C6D-3627-4BF7-A7A3-6B728CE5D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D0AA6-508E-4FD3-85F4-1C42FCD4C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5B306-EB28-429D-B78E-D69153F59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3D382-5468-4B51-A529-6A592FFF0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1843D-22E7-476A-92A3-BF94C0BEE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9C078-511C-48B1-A317-103D3F419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F42D4-3333-4AAA-834D-F848BE603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3B8368-AD99-44A7-A8A4-CAAD717484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305633-5B21-400F-8AE7-8449EF934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A730E-3906-4798-B72B-C25576AEE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004A1-7EF2-4A58-9AE3-97537231F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2613B-49E5-4B39-8465-7E4738D85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A10B9-8269-4137-9B5C-6BFA1F6AE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4AAFB-61EC-4F40-AFEE-E57EAFF1A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E567D-8112-42CF-9291-380A441B9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33753-CE7A-4F06-85FA-17449640F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ED65-DEA3-4DB9-AC1C-C9EF4A317F8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E4AD-843E-4800-AF34-F28456736CF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ategic Planning</a:t>
            </a:r>
            <a:endParaRPr b="1" lang="en-US" sz="3600" spc="-1" strike="noStrike">
              <a:solidFill>
                <a:srgbClr val="006666"/>
              </a:solidFill>
              <a:latin typeface="Arial"/>
            </a:endParaRPr>
          </a:p>
        </p:txBody>
      </p:sp>
      <p:sp>
        <p:nvSpPr>
          <p:cNvPr id="11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n approach to setting district goals for three-to-five year period.  A mission statement is designed, belief statements may be outlines, and goals or vision statements are defined for the district.  Action teams may be organized to refine the goals and prescribe strategies for achieving them.  The board of education is required to adopt the plan to complete the proces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tal Quality Management</a:t>
            </a:r>
            <a:endParaRPr b="1" lang="en-US" sz="3600" spc="-1" strike="noStrike">
              <a:solidFill>
                <a:srgbClr val="006666"/>
              </a:solidFill>
              <a:latin typeface="Arial"/>
            </a:endParaRPr>
          </a:p>
        </p:txBody>
      </p:sp>
      <p:sp>
        <p:nvSpPr>
          <p:cNvPr id="12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QM is an opportunity to conceptualize a systematic change for school districts.  School board members, administrators, teachers, support staff, parents and students meet on a peer level to reach consensus about a shared vision of excellenc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requires the total organization to take the authority and the responsibilit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llenge</a:t>
            </a:r>
            <a:endParaRPr b="1" lang="en-US" sz="3600" spc="-1" strike="noStrike">
              <a:solidFill>
                <a:srgbClr val="006666"/>
              </a:solidFill>
              <a:latin typeface="Arial"/>
            </a:endParaRPr>
          </a:p>
        </p:txBody>
      </p:sp>
      <p:sp>
        <p:nvSpPr>
          <p:cNvPr id="12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adership challenge is to develop the best possible budget process and document that which will convey to the board and community what is needed and wh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udget</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udget is a financial plan that involves at least four elements: (1) planning, (2) receiving funds, (3) spending funds, (4) evaluating resul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udget</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udget can follow a pattern as </a:t>
            </a:r>
            <a:endParaRPr b="0" lang="en-US" sz="28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ing need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stablishing goal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rganizing objective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ilding a program in meeting those objective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viding a budget to fund those program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Budget’s Three Dimensions</a:t>
            </a:r>
            <a:endParaRPr b="1" lang="en-US" sz="32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chool district budget has been represented by an equilateral triangle.</a:t>
            </a:r>
            <a:endParaRPr b="0" lang="en-US" sz="2800" spc="-1" strike="noStrike">
              <a:solidFill>
                <a:srgbClr val="003366"/>
              </a:solidFill>
              <a:latin typeface="Arial"/>
            </a:endParaRPr>
          </a:p>
        </p:txBody>
      </p:sp>
      <p:sp>
        <p:nvSpPr>
          <p:cNvPr id="102" name=""/>
          <p:cNvSpPr/>
          <p:nvPr/>
        </p:nvSpPr>
        <p:spPr>
          <a:xfrm flipH="1">
            <a:off x="3276720" y="3048120"/>
            <a:ext cx="1218960" cy="2133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Century"/>
            </a:endParaRPr>
          </a:p>
        </p:txBody>
      </p:sp>
      <p:sp>
        <p:nvSpPr>
          <p:cNvPr id="103" name=""/>
          <p:cNvSpPr/>
          <p:nvPr/>
        </p:nvSpPr>
        <p:spPr>
          <a:xfrm>
            <a:off x="4495680" y="3048120"/>
            <a:ext cx="1295640" cy="2133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Century"/>
            </a:endParaRPr>
          </a:p>
        </p:txBody>
      </p:sp>
      <p:sp>
        <p:nvSpPr>
          <p:cNvPr id="104" name=""/>
          <p:cNvSpPr/>
          <p:nvPr/>
        </p:nvSpPr>
        <p:spPr>
          <a:xfrm flipH="1">
            <a:off x="3276360" y="5181480"/>
            <a:ext cx="25146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Century"/>
            </a:endParaRPr>
          </a:p>
        </p:txBody>
      </p:sp>
      <p:sp>
        <p:nvSpPr>
          <p:cNvPr id="105" name=""/>
          <p:cNvSpPr/>
          <p:nvPr/>
        </p:nvSpPr>
        <p:spPr>
          <a:xfrm>
            <a:off x="1244160" y="3309840"/>
            <a:ext cx="235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entury"/>
              </a:rPr>
              <a:t>Cost of the program</a:t>
            </a:r>
            <a:endParaRPr b="0" lang="en-US" sz="1800" spc="-1" strike="noStrike">
              <a:solidFill>
                <a:srgbClr val="003366"/>
              </a:solidFill>
              <a:latin typeface="Century"/>
            </a:endParaRPr>
          </a:p>
        </p:txBody>
      </p:sp>
      <p:sp>
        <p:nvSpPr>
          <p:cNvPr id="106" name=""/>
          <p:cNvSpPr/>
          <p:nvPr/>
        </p:nvSpPr>
        <p:spPr>
          <a:xfrm>
            <a:off x="5551920" y="323388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entury"/>
              </a:rPr>
              <a:t>Revenue Plan</a:t>
            </a:r>
            <a:endParaRPr b="0" lang="en-US" sz="1800" spc="-1" strike="noStrike">
              <a:solidFill>
                <a:srgbClr val="003366"/>
              </a:solidFill>
              <a:latin typeface="Century"/>
            </a:endParaRPr>
          </a:p>
        </p:txBody>
      </p:sp>
      <p:sp>
        <p:nvSpPr>
          <p:cNvPr id="107" name=""/>
          <p:cNvSpPr/>
          <p:nvPr/>
        </p:nvSpPr>
        <p:spPr>
          <a:xfrm>
            <a:off x="3352680" y="5410080"/>
            <a:ext cx="24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entury"/>
              </a:rPr>
              <a:t>Educational Program</a:t>
            </a:r>
            <a:endParaRPr b="0" lang="en-US" sz="1800" spc="-1" strike="noStrike">
              <a:solidFill>
                <a:srgbClr val="003366"/>
              </a:solidFill>
              <a:latin typeface="Centur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Budget’s Three Dimensions</a:t>
            </a:r>
            <a:endParaRPr b="1" lang="en-US" sz="32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ory the educational program is determined first.  It is then converted into cost terms, and finally the determination of the sources of required revenues is mad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dea is for the educational program to be developed without letting the available funds be the master or limiting factor in determining the bounds of the educational program.</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ministration of the Budget</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perintendent of schools should administer the budget, and the school board has legal authority for its formal adoption.  The budgeting process should be continuous and provide for citizen review and appraisal.  In preparing the budget, the superintendent should work with the entire school staff in order to provide an instrument that reflects the goals and objectives of the distric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udgeting at the School Level</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dministrator is the chief financial officer of a school.</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essential that all funds be recorded and deposited into one school accoun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pecific notation must be made for every financial transaction that takes plac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implest school accounting form contains a single vertical line where increases are entered to the left and decreases are entered to the right of the line.  One such form is required for each activity that needs to be monito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ero-Based Budgeting</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BB requires justification of every program each time the budgeting process is redone.  Its chief advantages are the involvement of nearly all staff members, the requirement for an annual evaluation, and the development of priorities with alternativ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te-Based Budgeting</a:t>
            </a:r>
            <a:endParaRPr b="1" lang="en-US" sz="3600" spc="-1" strike="noStrike">
              <a:solidFill>
                <a:srgbClr val="006666"/>
              </a:solidFill>
              <a:latin typeface="Arial"/>
            </a:endParaRPr>
          </a:p>
        </p:txBody>
      </p:sp>
      <p:sp>
        <p:nvSpPr>
          <p:cNvPr id="11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BB involves teachers, community, and principals at the local school level.  It provides funds for supplies, materials, equipment, texts, and library books and sometimes salaries for teachers, aides, and custodia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6:44:12Z</dcterms:created>
  <dc:creator>Cynthia Altemueller</dc:creator>
  <dc:description/>
  <dc:language>en-US</dc:language>
  <cp:lastModifiedBy>AEURY</cp:lastModifiedBy>
  <dcterms:modified xsi:type="dcterms:W3CDTF">2006-01-27T22:13:57Z</dcterms:modified>
  <cp:revision>3</cp:revision>
  <dc:subject/>
  <dc:title>Finance in Education</dc:title>
</cp:coreProperties>
</file>